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D72B-C9CE-4B60-83C7-F1EF6140F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FDE3-D50C-4D88-9CCB-884E0577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5E59-3845-4F3F-98BE-A9B207685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0BC7-3F17-4ECB-A52C-C141771B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04F9-C0D0-4F3D-AF9E-D40D64B6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1F51-DBAC-482C-81D3-193AF690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5092-158E-4416-8E00-669134BD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BBA3-E018-40F7-A0AB-332C236A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9401-DC1F-4676-B713-FB5BC0D1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A584-C018-43CA-97E2-969C99F6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5801-33A0-4D71-8C60-51214D27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93CB-8388-4BE0-B3F3-F6067F71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C7BD-9BE3-48F9-AAE9-A1AE751F8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hutterstock.com/subscribe.m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BEFORE 14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Er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BEGI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ig bad Russians descended from Slavs that settled in Ukraine and Russia. In 800 A.D. the Slavs built civilization around now a day Kiev. They called it Kieven Ru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NEW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000 A.D. their leader accepted Eastern Orthodox Christianity. From 1200 A.D. – 1400 A.D, Mongolians ruled over the Slav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KING BACK WHAT WAS THE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cow became a new Slavic area named Muscovy. Their noble prince Ivan the third drove out the Mongols giving Muscovy indepen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ImageShack, share photos, pictures, free image hosting, free video hosting, image hosting, video hosting, photo image hosting site, video hosting site"/>
          <p:cNvPicPr/>
          <p:nvPr/>
        </p:nvPicPr>
        <p:blipFill>
          <a:blip r:embed="rId1"/>
          <a:stretch/>
        </p:blipFill>
        <p:spPr>
          <a:xfrm>
            <a:off x="-990720" y="0"/>
            <a:ext cx="11125440" cy="8325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stock photo : Russian czar Ivan III. Detail of the Monument to the Millennium of Russia from 1864 in Veliky Novgorod, Russ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524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ing Ivan the thi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3371760" cy="55054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avic territor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3962520"/>
            <a:ext cx="3733920" cy="485640"/>
          </a:xfrm>
          <a:prstGeom prst="leftArrow">
            <a:avLst>
              <a:gd name="adj1" fmla="val 50000"/>
              <a:gd name="adj2" fmla="val 1922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ussian Slavs Battle G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ImageShack, share photos of skythicon, share pictures of skythicon, share video of skythicon, free image hosting, free video hosting, image hosting, video hosting."/>
          <p:cNvPicPr/>
          <p:nvPr/>
        </p:nvPicPr>
        <p:blipFill>
          <a:blip r:embed="rId1"/>
          <a:stretch/>
        </p:blipFill>
        <p:spPr>
          <a:xfrm>
            <a:off x="457200" y="1676520"/>
            <a:ext cx="3657600" cy="4867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114800" y="1905120"/>
            <a:ext cx="4876920" cy="2757240"/>
          </a:xfrm>
          <a:custGeom>
            <a:avLst/>
            <a:gdLst>
              <a:gd name="textAreaLeft" fmla="*/ 1399680 w 4876920"/>
              <a:gd name="textAreaRight" fmla="*/ 4177080 w 4876920"/>
              <a:gd name="textAreaTop" fmla="*/ 1595520 h 2757240"/>
              <a:gd name="textAreaBottom" fmla="*/ 2361600 h 2757240"/>
            </a:gdLst>
            <a:ahLst/>
            <a:rect l="textAreaLeft" t="textAreaTop" r="textAreaRight" b="textAreaBottom"/>
            <a:pathLst>
              <a:path w="21600" h="21600">
                <a:moveTo>
                  <a:pt x="0" y="15500"/>
                </a:moveTo>
                <a:lnTo>
                  <a:pt x="6200" y="9399"/>
                </a:lnTo>
                <a:lnTo>
                  <a:pt x="6200" y="12499"/>
                </a:lnTo>
                <a:lnTo>
                  <a:pt x="12499" y="12499"/>
                </a:lnTo>
                <a:lnTo>
                  <a:pt x="12499" y="6200"/>
                </a:lnTo>
                <a:lnTo>
                  <a:pt x="9399" y="6200"/>
                </a:lnTo>
                <a:lnTo>
                  <a:pt x="1550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tle gear used against Mong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8:40:43Z</dcterms:created>
  <dc:creator> </dc:creator>
  <dc:description/>
  <dc:language>en-US</dc:language>
  <cp:lastModifiedBy>Malcolm Barber</cp:lastModifiedBy>
  <dcterms:modified xsi:type="dcterms:W3CDTF">2010-12-16T22:25:05Z</dcterms:modified>
  <cp:revision>10</cp:revision>
  <dc:subject/>
  <dc:title>HISTORY BEFORE 1917</dc:title>
</cp:coreProperties>
</file>